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62C-7656-4C25-9421-2BC4A532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7FE-20D4-497C-BCC0-D033A25B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343-4EB0-406F-862B-7CD09A4A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896-5A4C-4642-AF78-3459E394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616-565C-4FF8-8C7B-4AEA90ED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EA6F-9B1F-4855-B634-C962EF34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9165-5CC7-4906-AEAC-2732907C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6598-C837-461B-A6BA-786F168C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B69D-907D-4379-8B12-16B6707A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3295-2978-4517-88F2-7C50F77F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C0F7-AEA2-4F32-867E-D77F331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E8A-1919-41FE-B308-649B14DB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8DA6-8271-491F-A6D2-0AECD998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E5B7-84F4-4756-B7A8-883255B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36A5-1C9E-4823-B4A6-D689C6E2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11E1-5326-4748-AED6-EBADA29E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33D0-12CB-401A-8751-C11A654B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17C-3ED5-4FB7-B023-CCBDD4E8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B1A-219D-4A37-A393-FCEEE44A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3C3-EABE-41E9-A2E5-6A0D15E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0AF-C098-49C9-BF2B-4DD7DD4E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F59-0459-4483-9395-D3D09FDA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C51-3573-47DA-BB87-604C0B0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229-59EA-4261-9D14-8DA2BE2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30BD-83B1-4C31-AA20-40485798D4AB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85F3-CC4E-4DD4-9DEC-3D5392FE9B5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5840" y="1066680"/>
            <a:ext cx="4724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固体催化剂的表征方法—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还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/TPR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00800" y="3801960"/>
            <a:ext cx="22860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程序升温还原（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TPR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应用于表征负载型金属或过渡金属氧化物催化剂，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结果进行分析可以获得金属与载体的相互作用，金属的价态和是否形成合金等方面的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徐柏庆，徐奕德等，程序升温原位分析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5261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还原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负载的金属的价态，聚集状态，与载体的作用发生改变的时候，其还原温度，还原后的价态将会发生改变，如果能测出程序升温还原过程中氢气的消耗量，还原温度等，就能得到负载金属的一些状态参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水分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145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.Ni/ZrO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The increase metal loading reduces the metal-support interaction and the metal oxide reduces with less interference from the suppor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aresh C.Das,Catalysis Letters Vol.98,Nos.2-3,November 200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6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67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Gonzalo Aguila,Catalysis Communications 9(2008)2550-255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谢   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Ovetanovio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menomiy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成功建立和发展了程序升温技术，在最近的几十年中，不管是理论上还是在实验上都得到了充分的完善，并且有广泛的应用，通过此方法可以得到气体在催化剂上吸附键的强弱等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辛勤，催化研究中的原位技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640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测量某固体酸碱的强度和数量时，固体上的物种活性系数是未知的，因此从热力学上来讲固体的酸度和碱度都是不确定的，如果考虑到上述局限性，又不过分强调数值的精度，其绝对值还是非常重要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于测定酸强度和酸量的方法有胺滴定法，红外和气体吸附脱附法，后两方法更为普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碱性气体在酸性中心上吸附时，吸附在强酸中心上的比吸附在弱酸中心上的稳定，也更难脱附，提高温度可令其从酸性中心上脱附，而那些在弱酸中心上的将首先脱附，因此测定在不同温度下脱附的吸附碱相对量可测定酸中心强度，而脱附的碱性气体的量也就对应其酸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用的碱性气体有氨气，吡啶和正丁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田部浩三，新固体酸和碱及其催化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两种常用的研究酸技术的比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523880"/>
          <a:ext cx="6553080" cy="502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28600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程序升温脱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吡啶红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强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温度范围较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只能比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以内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分布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类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282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：吹扫吸附在催化剂上的水分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吸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物理吸附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37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u-Mn-Si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耦合反应合成环己酮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-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基呋喃的研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3: Cu:Mn=1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4: Cu:Mn:Si=1:1.12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5: Cu:Mn:Si=1:1.12:1.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6: Cu:Mn:Si=1:1.12:0.6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结论：弱酸对环己醇脱氢没有太大的影响，而中等强度的酸对环己酮的收率影响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ong-Yan Zheng,Yu-Lei Zhu,Catalysis Communications 9(2008)342-348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0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60958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Komandur V.R.Chary,J.Phys.Chem.B,2007,111(3),543-55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3320" y="1371600"/>
            <a:ext cx="333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TPD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的几种延伸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4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原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TPD-IR-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储伟 ，催化剂工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肖丰收，辛勤，催化研究中的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TPD-IR-MS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KLTLZX</cp:lastModifiedBy>
  <dcterms:modified xsi:type="dcterms:W3CDTF">2011-11-02T01:43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