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2ED-228A-4DFC-8553-DAC2DEDE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517-C8E5-49C8-B51E-9541F628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95A-A187-4DFD-8A1C-E1F26948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D85-D4CA-4375-B5A4-054ADA6A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F8E9-3F1C-4549-9102-14A42FE1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6764-1913-4A1D-83CE-32EBB6FB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9B5F-AE9A-40B8-9955-12C36FDA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066F-5532-43F1-9816-0D40A43B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984E-7B6E-480D-AF8C-564890E9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0DAB-8719-46E4-8FAF-5A1B598D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C31D-02F9-4FE3-8B4E-CFE415C3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D46-2DCF-46FC-9FB7-A5D45461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8049-9B77-4626-8CA3-90380E3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37BC-681F-44C0-9A91-1C2192AB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1260-133C-4203-8A2E-F703A7A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E9F9-2F10-4A61-9341-8370A017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F2D9-E537-4670-8C5B-71C0AF65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21B-47BE-4723-8911-0AF9D29C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E19-26B5-471F-9456-597C977D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3CB-4461-4B2D-98D6-3B724E1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95D-73AE-4FA8-BC5F-958ACF55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C29-DCAC-4A5A-8B87-C29F4055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85A-1093-44CA-9D98-5E70511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222-AB0E-4619-B597-E96C5E96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F390-4097-436D-912C-56384B5C825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7FA1-9CD4-4635-B126-5460878D34A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5840" y="1066680"/>
            <a:ext cx="472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固体催化剂的表征方法—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还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/TPR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00800" y="3801960"/>
            <a:ext cx="22860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程序升温还原（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TPR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应用于表征负载型金属或过渡金属氧化物催化剂，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果进行分析可以获得金属与载体的相互作用，金属的价态和是否形成合金等方面的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徐柏庆，徐奕德等，程序升温原位分析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5261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还原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负载的金属的价态，聚集状态，与载体的作用发生改变的时候，其还原温度，还原后的价态将会发生改变，如果能测出程序升温还原过程中氢气的消耗量，还原温度等，就能得到负载金属的一些状态参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水分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145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Ni/ZrO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The increase metal loading reduces the metal-support interaction and the metal oxide reduces with less interference from the suppor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aresh C.Das,Catalysis Letters Vol.98,Nos.2-3,November 200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6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67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Gonzalo Aguila,Catalysis Communications 9(2008)2550-255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谢   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Ovetanovi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menomiy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成功建立和发展了程序升温技术，在最近的几十年中，不管是理论上还是在实验上都得到了充分的完善，并且有广泛的应用，通过此方法可以得到气体在催化剂上吸附键的强弱等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辛勤，催化研究中的原位技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640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测量某固体酸碱的强度和数量时，固体上的物种活性系数是未知的，因此从热力学上来讲固体的酸度和碱度都是不确定的，如果考虑到上述局限性，又不过分强调数值的精度，其绝对值还是非常重要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于测定酸强度和酸量的方法有胺滴定法，红外和气体吸附脱附法，后两方法更为普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碱性气体在酸性中心上吸附时，吸附在强酸中心上的比吸附在弱酸中心上的稳定，也更难脱附，提高温度可令其从酸性中心上脱附，而那些在弱酸中心上的将首先脱附，因此测定在不同温度下脱附的吸附碱相对量可测定酸中心强度，而脱附的碱性气体的量也就对应其酸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用的碱性气体有氨气，吡啶和正丁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田部浩三，新固体酸和碱及其催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两种常用的研究酸技术的比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523880"/>
          <a:ext cx="6553080" cy="502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28600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程序升温脱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吡啶红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强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温度范围较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只能比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以内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分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类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282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：吹扫吸附在催化剂上的水分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吸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物理吸附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u-Mn-Si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耦合反应合成环己酮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-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基呋喃的研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3: Cu:Mn=1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4: Cu:Mn:Si=1:1.12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5: Cu:Mn:Si=1:1.12:1.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6: Cu:Mn:Si=1:1.12:0.6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结论：弱酸对环己醇脱氢没有太大的影响，而中等强度的酸对环己酮的收率影响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ong-Yan Zheng,Yu-Lei Zhu,Catalysis Communications 9(2008)342-348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60958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Komandur V.R.Chary,J.Phys.Chem.B,2007,111(3),543-55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3320" y="1371600"/>
            <a:ext cx="333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TPD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的几种延伸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原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TPD-IR-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储伟 ，催化剂工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肖丰收，辛勤，催化研究中的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TPD-IR-M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LTLZX</cp:lastModifiedBy>
  <dcterms:modified xsi:type="dcterms:W3CDTF">2011-11-02T01:43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